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F0E-D590-4D99-9BDE-4E941FF517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4074-DE80-42DF-9CAA-73AEA6649E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5F3-6CDF-482B-A17E-2A6C520A53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76E9-685C-42F4-9EAF-2D85ABE3C9A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D811-DF65-447A-85B4-606DA25ACC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170B-D599-4065-AD70-DA381F42D8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042-1657-4DB4-A29C-CB59FC12B5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85AF-B801-43B8-AC2A-4825622C91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F83D-69BA-4ECF-88FB-19B3A86EC8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DA2A-F8F2-4382-89B7-2D4D5A52F6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447-D31E-42AA-881B-C2D48D9EF50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5DAC-48D2-406F-A886-236782CC45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CC52-C48D-4B8B-9625-18D188CA69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6C65-CF93-4AD4-925D-B93813E05B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DB78-983C-460B-B254-80DCA5E4EE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6CC0-FA96-421C-8005-7F0D7680AA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B8CC-8E60-40D1-8FE2-DD6724D952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4A74-9469-4951-8AD9-1EF9777C24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542-D4BE-4846-89F1-A3333C0FF0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CA6-13A2-40EC-85BA-76FC511B1D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E9B0-16A3-41EE-84E5-85838BD87B0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76A8-F2C6-4E1E-AF27-668383AF61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0278-7B76-4DC1-821E-0D1BED81E9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7B7C-077E-4DE3-A57A-6FD67C11AF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A87F-9EAC-49B2-837E-0A60598551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1992-56A8-471F-833A-4E67A23676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6C87-CB46-4ADF-A916-5D3693E958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F87-F4B6-4282-92C2-5A84CA4B86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951E-E83B-45B8-AA7A-975243F958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995F-4721-4F97-BDE6-F629046BF8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C84-8D49-411C-89E2-F71084CCA9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649440" y="297000"/>
            <a:ext cx="3792240" cy="28447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62040" y="3494160"/>
            <a:ext cx="57672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4364-27C8-4DE5-AFD4-FE06213E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3A3-B9FE-41F4-A6C7-36DECC6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826A-6BB5-48C0-B531-CD9A9F9A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303-9CBF-45D5-B718-1F495114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66D7-10A7-4522-BC26-127027D3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6EBA-99BE-49DD-B259-CFD9F997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1918-AECB-47ED-8661-66B94580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AF4A-1138-4104-AEC3-EE5010E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FA26-9D7B-4E06-8F58-354F1C28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D381-2004-41B8-843B-EE7ECCC2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ECB7-782C-45C0-905D-50450422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CF6-B104-48F2-BD68-074EFB33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8EC0-EC28-4882-B2B8-1215F8A1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543D-9AC4-49E3-A594-584F3934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01A2-8CB7-4D68-8276-09E3CCC0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9E0-7314-4BBA-9BC2-BAEC30F8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7F47-1CE1-4EB9-9AA5-3240AA2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9DE-0CD0-4CD2-A26F-C145E1A3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EDF-2CFA-4997-9DA4-6DFE6C7C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5AD-C489-44FB-B52F-8A62EDAC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BD3-B737-405E-9751-551FC951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087-11C0-44AB-86A7-21DCC969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0F0-2841-4F9E-8844-4519C411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C33-CDC3-4B65-881D-E2F612A9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390C-90A8-4A0C-B553-B9F89940E0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410A-14FB-4EDB-B895-6A97963F77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33084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084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95280" y="3139920"/>
            <a:ext cx="84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5"/>
          <p:cNvSpPr/>
          <p:nvPr/>
        </p:nvSpPr>
        <p:spPr>
          <a:xfrm>
            <a:off x="1979640" y="522936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JORGE BALTODANO JAR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ima,  Febrero de 2009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1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97" name="Group 8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98" name="Picture 9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WordArt 10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100" name="Rectangle 18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Vice Ministro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de Hacienda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7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Ministerio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de Economía y Finanza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PERÚ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Line 20"/>
          <p:cNvSpPr/>
          <p:nvPr/>
        </p:nvSpPr>
        <p:spPr>
          <a:xfrm>
            <a:off x="1116000" y="863640"/>
            <a:ext cx="6840720" cy="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1116000" y="1773360"/>
            <a:ext cx="6840720" cy="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1116000" y="863640"/>
            <a:ext cx="0" cy="90972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7956720" y="863640"/>
            <a:ext cx="0" cy="90972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7"/>
          <p:cNvSpPr/>
          <p:nvPr/>
        </p:nvSpPr>
        <p:spPr>
          <a:xfrm>
            <a:off x="2124000" y="863640"/>
            <a:ext cx="0" cy="90972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0"/>
          <p:cNvSpPr/>
          <p:nvPr/>
        </p:nvSpPr>
        <p:spPr>
          <a:xfrm>
            <a:off x="3995640" y="863640"/>
            <a:ext cx="0" cy="90972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3"/>
          <p:cNvSpPr/>
          <p:nvPr/>
        </p:nvSpPr>
        <p:spPr>
          <a:xfrm>
            <a:off x="5867280" y="863640"/>
            <a:ext cx="0" cy="909720"/>
          </a:xfrm>
          <a:prstGeom prst="line">
            <a:avLst/>
          </a:prstGeom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67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179280" y="693720"/>
          <a:ext cx="8844120" cy="58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3720"/>
                    <a:ext cx="88441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74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7"/>
          <p:cNvGraphicFramePr/>
          <p:nvPr/>
        </p:nvGraphicFramePr>
        <p:xfrm>
          <a:off x="189000" y="693720"/>
          <a:ext cx="8797680" cy="583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693720"/>
                    <a:ext cx="879768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81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7"/>
          <p:cNvGraphicFramePr/>
          <p:nvPr/>
        </p:nvGraphicFramePr>
        <p:xfrm>
          <a:off x="198360" y="693720"/>
          <a:ext cx="877896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693720"/>
                    <a:ext cx="87789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88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Object 7"/>
          <p:cNvGraphicFramePr/>
          <p:nvPr/>
        </p:nvGraphicFramePr>
        <p:xfrm>
          <a:off x="250920" y="896760"/>
          <a:ext cx="8642160" cy="446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96760"/>
                    <a:ext cx="864216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95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79280" y="692280"/>
          <a:ext cx="8893440" cy="59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89344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02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7"/>
          <p:cNvGraphicFramePr/>
          <p:nvPr/>
        </p:nvGraphicFramePr>
        <p:xfrm>
          <a:off x="212760" y="693720"/>
          <a:ext cx="88534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693720"/>
                    <a:ext cx="88534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09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Object 7"/>
          <p:cNvGraphicFramePr/>
          <p:nvPr/>
        </p:nvGraphicFramePr>
        <p:xfrm>
          <a:off x="228600" y="693720"/>
          <a:ext cx="878832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93720"/>
                    <a:ext cx="878832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16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7"/>
          <p:cNvGraphicFramePr/>
          <p:nvPr/>
        </p:nvGraphicFramePr>
        <p:xfrm>
          <a:off x="249120" y="693720"/>
          <a:ext cx="8780760" cy="46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120" y="693720"/>
                    <a:ext cx="878076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23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274680" y="693720"/>
          <a:ext cx="876312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693720"/>
                    <a:ext cx="876312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30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7"/>
          <p:cNvGraphicFramePr/>
          <p:nvPr/>
        </p:nvGraphicFramePr>
        <p:xfrm>
          <a:off x="287280" y="928800"/>
          <a:ext cx="8771040" cy="40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928800"/>
                    <a:ext cx="877104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11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142"/>
          <p:cNvGraphicFramePr/>
          <p:nvPr/>
        </p:nvGraphicFramePr>
        <p:xfrm>
          <a:off x="216000" y="779400"/>
          <a:ext cx="9396360" cy="486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79400"/>
                    <a:ext cx="939636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37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Object 7"/>
          <p:cNvGraphicFramePr/>
          <p:nvPr/>
        </p:nvGraphicFramePr>
        <p:xfrm>
          <a:off x="250920" y="693720"/>
          <a:ext cx="8858160" cy="575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3720"/>
                    <a:ext cx="885816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44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135000" y="698400"/>
          <a:ext cx="8928000" cy="31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698400"/>
                    <a:ext cx="892800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51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7"/>
          <p:cNvGraphicFramePr/>
          <p:nvPr/>
        </p:nvGraphicFramePr>
        <p:xfrm>
          <a:off x="135000" y="693720"/>
          <a:ext cx="8889840" cy="54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693720"/>
                    <a:ext cx="888984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58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7"/>
          <p:cNvGraphicFramePr/>
          <p:nvPr/>
        </p:nvGraphicFramePr>
        <p:xfrm>
          <a:off x="142920" y="693720"/>
          <a:ext cx="9001080" cy="50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93720"/>
                    <a:ext cx="900108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65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7"/>
          <p:cNvGraphicFramePr/>
          <p:nvPr/>
        </p:nvGraphicFramePr>
        <p:xfrm>
          <a:off x="169920" y="785880"/>
          <a:ext cx="8889840" cy="47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85880"/>
                    <a:ext cx="888984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72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7"/>
          <p:cNvGraphicFramePr/>
          <p:nvPr/>
        </p:nvGraphicFramePr>
        <p:xfrm>
          <a:off x="268200" y="717480"/>
          <a:ext cx="8678880" cy="54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717480"/>
                    <a:ext cx="867888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79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7"/>
          <p:cNvGraphicFramePr/>
          <p:nvPr/>
        </p:nvGraphicFramePr>
        <p:xfrm>
          <a:off x="306360" y="717480"/>
          <a:ext cx="8637480" cy="566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717480"/>
                    <a:ext cx="86374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86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7"/>
          <p:cNvGraphicFramePr/>
          <p:nvPr/>
        </p:nvGraphicFramePr>
        <p:xfrm>
          <a:off x="318960" y="717480"/>
          <a:ext cx="8647200" cy="573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17480"/>
                    <a:ext cx="8647200" cy="57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293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Object 7"/>
          <p:cNvGraphicFramePr/>
          <p:nvPr/>
        </p:nvGraphicFramePr>
        <p:xfrm>
          <a:off x="349200" y="712800"/>
          <a:ext cx="8659800" cy="387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712800"/>
                    <a:ext cx="8659800" cy="38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300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Object 7"/>
          <p:cNvGraphicFramePr/>
          <p:nvPr/>
        </p:nvGraphicFramePr>
        <p:xfrm>
          <a:off x="349200" y="712800"/>
          <a:ext cx="8659800" cy="45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712800"/>
                    <a:ext cx="865980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18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7"/>
          <p:cNvGraphicFramePr/>
          <p:nvPr/>
        </p:nvGraphicFramePr>
        <p:xfrm>
          <a:off x="179280" y="692280"/>
          <a:ext cx="882036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882036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307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7"/>
          <p:cNvGraphicFramePr/>
          <p:nvPr/>
        </p:nvGraphicFramePr>
        <p:xfrm>
          <a:off x="355680" y="717480"/>
          <a:ext cx="8648640" cy="47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717480"/>
                    <a:ext cx="864864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430280" y="2976120"/>
            <a:ext cx="479736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GRACIAS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25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7"/>
          <p:cNvGraphicFramePr/>
          <p:nvPr/>
        </p:nvGraphicFramePr>
        <p:xfrm>
          <a:off x="201600" y="693720"/>
          <a:ext cx="8774280" cy="575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693720"/>
                    <a:ext cx="877428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32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7"/>
          <p:cNvGraphicFramePr/>
          <p:nvPr/>
        </p:nvGraphicFramePr>
        <p:xfrm>
          <a:off x="255600" y="928800"/>
          <a:ext cx="8674200" cy="428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28800"/>
                    <a:ext cx="86742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39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7"/>
          <p:cNvGraphicFramePr/>
          <p:nvPr/>
        </p:nvGraphicFramePr>
        <p:xfrm>
          <a:off x="179280" y="693720"/>
          <a:ext cx="8713800" cy="575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3720"/>
                    <a:ext cx="87138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46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79280" y="693720"/>
          <a:ext cx="894564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3720"/>
                    <a:ext cx="89456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53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7"/>
          <p:cNvGraphicFramePr/>
          <p:nvPr/>
        </p:nvGraphicFramePr>
        <p:xfrm>
          <a:off x="195120" y="693720"/>
          <a:ext cx="8888400" cy="590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120" y="693720"/>
                    <a:ext cx="88884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60" name="Line 3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6"/>
          <p:cNvSpPr/>
          <p:nvPr/>
        </p:nvSpPr>
        <p:spPr>
          <a:xfrm>
            <a:off x="0" y="193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ASOS PRÁCTIC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7"/>
          <p:cNvGraphicFramePr/>
          <p:nvPr/>
        </p:nvGraphicFramePr>
        <p:xfrm>
          <a:off x="228600" y="1214280"/>
          <a:ext cx="8558280" cy="407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4280"/>
                    <a:ext cx="8558280" cy="40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5:43:22Z</dcterms:created>
  <dc:creator>jporras</dc:creator>
  <dc:description/>
  <dc:language>en-US</dc:language>
  <cp:lastModifiedBy>mef</cp:lastModifiedBy>
  <dcterms:modified xsi:type="dcterms:W3CDTF">2009-02-05T13:55:10Z</dcterms:modified>
  <cp:revision>96</cp:revision>
  <dc:subject/>
  <dc:title>Diapositiva 1</dc:title>
</cp:coreProperties>
</file>